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drum9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333-A9C9-47FE-8B7E-8366CF7F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44B-F661-42C8-8A27-4EBB2979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75C-4D12-4E5D-8A64-F31D39BC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EA6-5146-4DBB-AAB5-0EEA3312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803-CB72-4380-89FE-79D2AF58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6BA-518C-4F76-97C7-7176379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A72-BD11-4911-9413-0F61185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368-0B05-4A4D-91BD-0B8B18F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E4A-C527-4A5B-92C5-D27EFFC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3AA-25CA-4DA0-B6BA-01151E9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8B0-EBFC-4AEE-B191-78C2BCA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15B-5A4D-49E2-BB34-77E5C08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75A-C3CC-4229-9B54-3C63AADEE48A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9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ÁLISIS DE IMÁ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NO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NN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zahmed_haroun"/>
          <p:cNvPicPr/>
          <p:nvPr/>
        </p:nvPicPr>
        <p:blipFill>
          <a:blip r:embed="rId1"/>
          <a:stretch/>
        </p:blipFill>
        <p:spPr>
          <a:xfrm>
            <a:off x="1066680" y="228600"/>
            <a:ext cx="7239240" cy="63086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zKKTR631"/>
          <p:cNvPicPr/>
          <p:nvPr/>
        </p:nvPicPr>
        <p:blipFill>
          <a:blip r:embed="rId1"/>
          <a:stretch/>
        </p:blipFill>
        <p:spPr>
          <a:xfrm>
            <a:off x="0" y="193680"/>
            <a:ext cx="9067680" cy="65311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z01ucuncu"/>
          <p:cNvPicPr/>
          <p:nvPr/>
        </p:nvPicPr>
        <p:blipFill>
          <a:blip r:embed="rId1"/>
          <a:stretch/>
        </p:blipFill>
        <p:spPr>
          <a:xfrm>
            <a:off x="2174760" y="380880"/>
            <a:ext cx="5216760" cy="617220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z0012a"/>
          <p:cNvPicPr/>
          <p:nvPr/>
        </p:nvPicPr>
        <p:blipFill>
          <a:blip r:embed="rId1"/>
          <a:stretch/>
        </p:blipFill>
        <p:spPr>
          <a:xfrm>
            <a:off x="2295360" y="152280"/>
            <a:ext cx="4714920" cy="65534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zKKTR296"/>
          <p:cNvPicPr/>
          <p:nvPr/>
        </p:nvPicPr>
        <p:blipFill>
          <a:blip r:embed="rId1"/>
          <a:stretch/>
        </p:blipFill>
        <p:spPr>
          <a:xfrm>
            <a:off x="228600" y="228600"/>
            <a:ext cx="5235480" cy="64771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pic>
        <p:nvPicPr>
          <p:cNvPr id="64" name="Picture 3" descr="z01ORGANIZASYON SEMASIa"/>
          <p:cNvPicPr/>
          <p:nvPr/>
        </p:nvPicPr>
        <p:blipFill>
          <a:blip r:embed="rId2"/>
          <a:stretch/>
        </p:blipFill>
        <p:spPr>
          <a:xfrm>
            <a:off x="5767560" y="1600200"/>
            <a:ext cx="3224160" cy="51055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zKKTR224"/>
          <p:cNvPicPr/>
          <p:nvPr/>
        </p:nvPicPr>
        <p:blipFill>
          <a:blip r:embed="rId1"/>
          <a:stretch/>
        </p:blipFill>
        <p:spPr>
          <a:xfrm>
            <a:off x="2428920" y="304920"/>
            <a:ext cx="4279680" cy="65530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KKTR265"/>
          <p:cNvPicPr/>
          <p:nvPr/>
        </p:nvPicPr>
        <p:blipFill>
          <a:blip r:embed="rId1"/>
          <a:srcRect l="2748" t="0" r="3384" b="0"/>
          <a:stretch/>
        </p:blipFill>
        <p:spPr>
          <a:xfrm>
            <a:off x="380880" y="1143000"/>
            <a:ext cx="8458200" cy="41450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zsekiz_xx"/>
          <p:cNvPicPr/>
          <p:nvPr/>
        </p:nvPicPr>
        <p:blipFill>
          <a:blip r:embed="rId1"/>
          <a:stretch/>
        </p:blipFill>
        <p:spPr>
          <a:xfrm>
            <a:off x="228600" y="54000"/>
            <a:ext cx="8686800" cy="665172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zwarlong"/>
          <p:cNvPicPr/>
          <p:nvPr/>
        </p:nvPicPr>
        <p:blipFill>
          <a:blip r:embed="rId1"/>
          <a:stretch/>
        </p:blipFill>
        <p:spPr>
          <a:xfrm>
            <a:off x="609480" y="482760"/>
            <a:ext cx="8153640" cy="599436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900000" y="2205000"/>
            <a:ext cx="7201080" cy="1511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971640" y="4076640"/>
            <a:ext cx="7848360" cy="2016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960" y="71424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imados alumnos  la lectura de todo texto literario y no  literario se da en dos nive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notativo: Es el nivel primario, objetivo. Lo  encontramos  en el diccionario y es común para t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notativo: Es el nivel más profundo de análisis, es subjetivo, sugerente. Es particular porque depende de cada individuo, es decir cada  persona tendrá una interpretación  sobre una misma ima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181480" y="4572000"/>
            <a:ext cx="1143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572000" y="0"/>
            <a:ext cx="23623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172200" y="4419720"/>
            <a:ext cx="29718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8381880" y="3657600"/>
            <a:ext cx="7621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00120" y="16430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Broadway"/>
              </a:rPr>
              <a:t>Humor oscuro p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Broadway"/>
              </a:rPr>
              <a:t>mentes cla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509480" y="3714840"/>
            <a:ext cx="607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CHISTES CON MORALEJA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SIN PALAB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drum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01untitled2"/>
          <p:cNvPicPr/>
          <p:nvPr/>
        </p:nvPicPr>
        <p:blipFill>
          <a:blip r:embed="rId1"/>
          <a:stretch/>
        </p:blipFill>
        <p:spPr>
          <a:xfrm>
            <a:off x="474840" y="1650960"/>
            <a:ext cx="8194320" cy="35542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zKKTR91"/>
          <p:cNvPicPr/>
          <p:nvPr/>
        </p:nvPicPr>
        <p:blipFill>
          <a:blip r:embed="rId1"/>
          <a:stretch/>
        </p:blipFill>
        <p:spPr>
          <a:xfrm>
            <a:off x="642960" y="714240"/>
            <a:ext cx="7881840" cy="56530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zali_sukru_fidan"/>
          <p:cNvPicPr/>
          <p:nvPr/>
        </p:nvPicPr>
        <p:blipFill>
          <a:blip r:embed="rId1"/>
          <a:stretch/>
        </p:blipFill>
        <p:spPr>
          <a:xfrm>
            <a:off x="1071720" y="1000080"/>
            <a:ext cx="7273800" cy="50720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zion_barbu"/>
          <p:cNvPicPr/>
          <p:nvPr/>
        </p:nvPicPr>
        <p:blipFill>
          <a:blip r:embed="rId1"/>
          <a:stretch/>
        </p:blipFill>
        <p:spPr>
          <a:xfrm>
            <a:off x="2786040" y="214200"/>
            <a:ext cx="3902040" cy="64771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zKKTR338"/>
          <p:cNvPicPr/>
          <p:nvPr/>
        </p:nvPicPr>
        <p:blipFill>
          <a:blip r:embed="rId1"/>
          <a:stretch/>
        </p:blipFill>
        <p:spPr>
          <a:xfrm>
            <a:off x="762120" y="609480"/>
            <a:ext cx="7173720" cy="55184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zoleg_delgadcshov"/>
          <p:cNvPicPr/>
          <p:nvPr/>
        </p:nvPicPr>
        <p:blipFill>
          <a:blip r:embed="rId1"/>
          <a:stretch/>
        </p:blipFill>
        <p:spPr>
          <a:xfrm>
            <a:off x="2214720" y="214200"/>
            <a:ext cx="4225680" cy="640080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23:11:59Z</dcterms:created>
  <dc:creator>MUSUGIN</dc:creator>
  <dc:description/>
  <dc:language>en-US</dc:language>
  <cp:lastModifiedBy>ELIZABETH</cp:lastModifiedBy>
  <dcterms:modified xsi:type="dcterms:W3CDTF">2009-08-29T01:12:50Z</dcterms:modified>
  <cp:revision>8</cp:revision>
  <dc:subject/>
  <dc:title>PowerPoint Sunusu</dc:title>
</cp:coreProperties>
</file>